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29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9.wmf" ContentType="image/x-wmf"/>
  <Override PartName="/ppt/media/image12.wmf" ContentType="image/x-wmf"/>
  <Override PartName="/ppt/media/image8.jpeg" ContentType="image/jpeg"/>
  <Override PartName="/ppt/media/image13.wmf" ContentType="image/x-wmf"/>
  <Override PartName="/ppt/media/image30.png" ContentType="image/png"/>
  <Override PartName="/ppt/media/image33.wmf" ContentType="image/x-wmf"/>
  <Override PartName="/ppt/media/image34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37760" y="520560"/>
            <a:ext cx="6443640" cy="25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3257280"/>
            <a:ext cx="72928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9466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4"/>
          </p:nvPr>
        </p:nvSpPr>
        <p:spPr>
          <a:xfrm>
            <a:off x="5175360" y="0"/>
            <a:ext cx="39463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4668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5175360" y="6515280"/>
            <a:ext cx="394632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90D37-DBB1-4261-B47D-26CEBAB96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38120" y="520560"/>
            <a:ext cx="646596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8120" y="520560"/>
            <a:ext cx="646596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38120" y="520560"/>
            <a:ext cx="646596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38120" y="520560"/>
            <a:ext cx="64612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8120" y="520560"/>
            <a:ext cx="64566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57680" y="52056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-8389800"/>
            <a:ext cx="1440" cy="1782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38120" y="520560"/>
            <a:ext cx="646596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38120" y="520560"/>
            <a:ext cx="646596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38120" y="520560"/>
            <a:ext cx="646596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14040" y="3257280"/>
            <a:ext cx="7294680" cy="30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415-E89D-4B0B-8E8E-E2F69506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72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072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884-2B2C-407C-9895-DBE63672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6048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39682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370-F232-4271-8F9F-EAAD8638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2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080" y="1604880"/>
            <a:ext cx="2642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960" y="1604880"/>
            <a:ext cx="2642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2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080" y="3968280"/>
            <a:ext cx="2642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960" y="3968280"/>
            <a:ext cx="2642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4B2-F6BF-4797-8E93-A3C69AF0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072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572-9131-419E-AFC0-C1C0243B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72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4B8-9249-4F64-A061-442B5E0C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604880"/>
            <a:ext cx="400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BB4-476C-4308-A94F-199E4F5F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B8B-2853-4AEA-8145-1CAF2DF8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072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EC6-7863-4693-8E60-010677FA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604880"/>
            <a:ext cx="400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14E-4FA7-4C5D-AC3E-E7AF649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6048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39682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815-7EC7-4BD7-850A-64313A6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604880"/>
            <a:ext cx="40050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072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D50-9F3B-42D1-B094-06E9888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72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2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2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2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2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2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2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2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720"/>
            <a:ext cx="21081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767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081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3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7C72E-C668-4589-995E-318347AC3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17720" y="1104840"/>
          <a:ext cx="5884920" cy="50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7720" y="1104840"/>
                    <a:ext cx="5884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25520" y="2771640"/>
            <a:ext cx="1834920" cy="232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42800" y="493560"/>
            <a:ext cx="798516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10200" y="6424560"/>
            <a:ext cx="4790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30160" y="574560"/>
          <a:ext cx="7626600" cy="50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574560"/>
                    <a:ext cx="7626600" cy="50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71600" y="2054160"/>
          <a:ext cx="6346800" cy="237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4160"/>
                    <a:ext cx="63468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187880" y="6424560"/>
            <a:ext cx="4829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2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0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95400" y="468360"/>
          <a:ext cx="786456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468360"/>
                    <a:ext cx="786456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63680" y="1022400"/>
          <a:ext cx="836604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022400"/>
                    <a:ext cx="836604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243320" y="6424560"/>
            <a:ext cx="4829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1982880"/>
          <a:ext cx="8804160" cy="41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2880"/>
                    <a:ext cx="88041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9160" y="3506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 pierws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76600" y="3279600"/>
            <a:ext cx="2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61280" y="6093000"/>
            <a:ext cx="2570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7240" y="6424560"/>
            <a:ext cx="4829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458040" y="398520"/>
            <a:ext cx="20826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0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507960" y="2138400"/>
          <a:ext cx="8232840" cy="40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2138400"/>
                    <a:ext cx="823284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17520"/>
            <a:ext cx="8224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Po dru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76600" y="3279600"/>
            <a:ext cx="2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7240" y="6424560"/>
            <a:ext cx="4829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711840" y="420840"/>
            <a:ext cx="1230480" cy="1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0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43080" y="2487600"/>
          <a:ext cx="8258040" cy="39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487600"/>
                    <a:ext cx="825804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17520"/>
            <a:ext cx="8224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b84747"/>
                </a:solidFill>
                <a:latin typeface="Times New Roman"/>
              </a:rPr>
              <a:t>Po trzec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08400" y="6424560"/>
            <a:ext cx="4829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462720" y="353880"/>
            <a:ext cx="1689120" cy="18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0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42920" y="2028960"/>
          <a:ext cx="871380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028960"/>
                    <a:ext cx="87138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7ff"/>
                </a:solidFill>
                <a:latin typeface="Times New Roman"/>
              </a:rPr>
              <a:t>Po czw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41920" y="5678640"/>
            <a:ext cx="2574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75280" y="6424560"/>
            <a:ext cx="4829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500880" y="636480"/>
            <a:ext cx="1704960" cy="13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0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17520"/>
            <a:ext cx="8224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b80047"/>
                </a:solidFill>
                <a:latin typeface="Times New Roman"/>
              </a:rPr>
              <a:t>Po pią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880" y="1949400"/>
            <a:ext cx="822492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Dynamiczne inwestycje komunalne i drogowe mają bardzo pozytywny wpływ na poprawę bezpieczeństwa mieszkańców, wyrabiając nawyki do poszanowania mienia, identyfikowania się z miejscami zamieszkania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i środowiska, wywołują uczucie dumy i satysfakcji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 miasta, jakim jest i staje się Pło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76720" y="6478560"/>
            <a:ext cx="482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80120" y="314280"/>
            <a:ext cx="2394000" cy="15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0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36520" y="1930320"/>
          <a:ext cx="823284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1930320"/>
                    <a:ext cx="823284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17520"/>
            <a:ext cx="8224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6633"/>
                </a:solidFill>
                <a:latin typeface="Times New Roman"/>
              </a:rPr>
              <a:t>Po szó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75280" y="6424560"/>
            <a:ext cx="4829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257880" y="554040"/>
            <a:ext cx="233676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0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1320" y="298440"/>
            <a:ext cx="4789440" cy="6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N BEZPIECZEŃST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g Poli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0000" y="1160640"/>
            <a:ext cx="23587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PRZESTĘPCZOŚĆ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0440" y="1138320"/>
            <a:ext cx="21164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WYKRYWALNOŚĆ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600" y="1982880"/>
            <a:ext cx="10033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ok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955800" y="1620720"/>
            <a:ext cx="7561080" cy="4375440"/>
            <a:chOff x="955800" y="1620720"/>
            <a:chExt cx="7561080" cy="4375440"/>
          </a:xfrm>
        </p:grpSpPr>
        <p:graphicFrame>
          <p:nvGraphicFramePr>
            <p:cNvPr id="71" name=""/>
            <p:cNvGraphicFramePr/>
            <p:nvPr/>
          </p:nvGraphicFramePr>
          <p:xfrm>
            <a:off x="998640" y="1620720"/>
            <a:ext cx="7518240" cy="437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8640" y="1620720"/>
                      <a:ext cx="7518240" cy="437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/>
            <p:nvPr/>
          </p:nvSpPr>
          <p:spPr>
            <a:xfrm>
              <a:off x="955800" y="2225520"/>
              <a:ext cx="7294320" cy="1800"/>
            </a:xfrm>
            <a:custGeom>
              <a:avLst/>
              <a:gdLst/>
              <a:ahLst/>
              <a:rect l="l" t="t" r="r" b="b"/>
              <a:pathLst>
                <a:path w="12720" h="1">
                  <a:moveTo>
                    <a:pt x="0" y="0"/>
                  </a:moveTo>
                  <a:lnTo>
                    <a:pt x="1272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2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2520" y="1755720"/>
              <a:ext cx="1800" cy="3421080"/>
            </a:xfrm>
            <a:custGeom>
              <a:avLst/>
              <a:gdLst/>
              <a:ahLst/>
              <a:rect l="l" t="t" r="r" b="b"/>
              <a:pathLst>
                <a:path w="1" h="5910">
                  <a:moveTo>
                    <a:pt x="0" y="0"/>
                  </a:moveTo>
                  <a:lnTo>
                    <a:pt x="0" y="59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21600" y="6203880"/>
            <a:ext cx="257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30720" y="6424560"/>
            <a:ext cx="4829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24000" y="2049480"/>
          <a:ext cx="821520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49480"/>
                    <a:ext cx="82152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17520"/>
            <a:ext cx="8224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Po siód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76600" y="3279600"/>
            <a:ext cx="2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7240" y="6424560"/>
            <a:ext cx="4829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280200" y="696960"/>
            <a:ext cx="1982880" cy="13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78000" y="1866960"/>
          <a:ext cx="8211960" cy="45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866960"/>
                    <a:ext cx="821196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3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4c19"/>
                </a:solidFill>
                <a:latin typeface="Times New Roman"/>
              </a:rPr>
              <a:t>Po ós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6480" y="5465880"/>
            <a:ext cx="257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7240" y="6424560"/>
            <a:ext cx="4829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302520" y="547560"/>
            <a:ext cx="206028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0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80880" y="1708200"/>
          <a:ext cx="8277480" cy="46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08200"/>
                    <a:ext cx="827748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3333"/>
                </a:solidFill>
                <a:latin typeface="Times New Roman"/>
              </a:rPr>
              <a:t>Po dziewią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5280" y="6424560"/>
            <a:ext cx="4829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738840" y="420840"/>
            <a:ext cx="1368360" cy="10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0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79440" y="1927080"/>
          <a:ext cx="8223120" cy="421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1927080"/>
                    <a:ext cx="82231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3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 dziesią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7120" y="5454720"/>
            <a:ext cx="257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13280" y="4905360"/>
            <a:ext cx="257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64120" y="6424560"/>
            <a:ext cx="4829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76600" y="3279600"/>
            <a:ext cx="2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65920" y="254160"/>
            <a:ext cx="124128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0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41480" y="1550880"/>
            <a:ext cx="7110360" cy="281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DZIĘKUJĘ ZA UWAGĘ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93880" y="206280"/>
            <a:ext cx="392904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N BEZPIECZEŃST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g Poli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70720" y="770040"/>
            <a:ext cx="227772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YPAD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KOLIZJE DROG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79560" y="1125360"/>
            <a:ext cx="7570800" cy="5388120"/>
            <a:chOff x="979560" y="1125360"/>
            <a:chExt cx="7570800" cy="5388120"/>
          </a:xfrm>
        </p:grpSpPr>
        <p:graphicFrame>
          <p:nvGraphicFramePr>
            <p:cNvPr id="80" name=""/>
            <p:cNvGraphicFramePr/>
            <p:nvPr/>
          </p:nvGraphicFramePr>
          <p:xfrm>
            <a:off x="979560" y="1125360"/>
            <a:ext cx="7570800" cy="538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9560" y="1125360"/>
                      <a:ext cx="7570800" cy="538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1111320" y="2225520"/>
              <a:ext cx="7343640" cy="1800"/>
            </a:xfrm>
            <a:custGeom>
              <a:avLst/>
              <a:gdLst/>
              <a:ahLst/>
              <a:rect l="l" t="t" r="r" b="b"/>
              <a:pathLst>
                <a:path w="14390" h="1">
                  <a:moveTo>
                    <a:pt x="0" y="0"/>
                  </a:moveTo>
                  <a:lnTo>
                    <a:pt x="1439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2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65600" y="1735200"/>
              <a:ext cx="1440" cy="3257640"/>
            </a:xfrm>
            <a:custGeom>
              <a:avLst/>
              <a:gdLst/>
              <a:ahLst/>
              <a:rect l="l" t="t" r="r" b="b"/>
              <a:pathLst>
                <a:path w="1" h="5597">
                  <a:moveTo>
                    <a:pt x="0" y="5597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78360" y="1746360"/>
              <a:ext cx="1800" cy="3238560"/>
            </a:xfrm>
            <a:custGeom>
              <a:avLst/>
              <a:gdLst/>
              <a:ahLst/>
              <a:rect l="l" t="t" r="r" b="b"/>
              <a:pathLst>
                <a:path w="1" h="5565">
                  <a:moveTo>
                    <a:pt x="0" y="556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0" y="2111400"/>
            <a:ext cx="9968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ok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27200" y="947880"/>
            <a:ext cx="2116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YKROCZ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6545160"/>
            <a:ext cx="4829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67160" y="438120"/>
            <a:ext cx="335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47800" y="309600"/>
            <a:ext cx="4553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N BEZPIECZEŃST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g Straży Miejski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90840" y="1542960"/>
            <a:ext cx="15811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WYKROCZEN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34000" y="1581120"/>
            <a:ext cx="1581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PRESJ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257040"/>
            <a:ext cx="15811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2320" y="1238400"/>
            <a:ext cx="8096400" cy="507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676600"/>
            <a:ext cx="99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ok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40640" y="6103800"/>
            <a:ext cx="257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29280" y="6593040"/>
            <a:ext cx="48258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52640" y="1017720"/>
            <a:ext cx="7412040" cy="5483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24160" y="220680"/>
            <a:ext cx="474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N BEZPIECZEŃST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g P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228600"/>
            <a:ext cx="1218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31840" y="3400560"/>
            <a:ext cx="11955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ok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8640" y="1816200"/>
            <a:ext cx="5079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86360" y="2571840"/>
            <a:ext cx="4572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7240" y="6424560"/>
            <a:ext cx="4829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09960" y="285840"/>
            <a:ext cx="37717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YDATKI Z BUDŻETU MIA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A BEZPIECZEŃS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w tys. zł.)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29680" y="209520"/>
            <a:ext cx="1314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31840" y="1506600"/>
            <a:ext cx="7529400" cy="494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1240" y="3610080"/>
            <a:ext cx="125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OK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0" y="3284640"/>
            <a:ext cx="257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13160" y="6537240"/>
            <a:ext cx="47530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0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38400" y="1754280"/>
          <a:ext cx="6696000" cy="25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754280"/>
                    <a:ext cx="6696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108320" y="6512040"/>
            <a:ext cx="484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</a:rPr>
              <a:t>Oddział Zarządzania Kryzysowego, Ochrony Ludności i Spraw Obron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798480" y="719280"/>
          <a:ext cx="756288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719280"/>
                    <a:ext cx="756288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9160" y="90000"/>
            <a:ext cx="812628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ydatki na bezpieczeństwo mieszkańców z Budżetu Miasta Płocka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2006 ro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841320" y="255600"/>
          <a:ext cx="8010720" cy="650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55600"/>
                    <a:ext cx="8010720" cy="65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Bez tytułu slajdu</dc:title>
</cp:coreProperties>
</file>